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C88-ADF1-4912-8B7B-A9A2F025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267-11AB-46DA-BBBC-8D362CD7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4B3-E7CC-44A6-9CFF-6198F5CC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101-FD50-493B-AEC4-598BDEC5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70E-6882-4B5A-84A5-DCB31F6F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D45-691E-468B-AF95-C77962B6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006-827C-4030-A870-A5E64B9F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EDD-0A05-4E05-BD03-913C23EC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4B9-DC12-49B4-BAEF-0225289F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DA8-0E1E-46F9-8870-5A129F5C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3AD-B703-4C92-ADD5-BBCA7A4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9CC-067B-4248-9CEA-78FCC500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4142-79A0-4356-A8A1-5DC4C3C94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O9CKkbLUiI" TargetMode="Externa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cience and Studying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science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752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ce begins a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uriosity and tries to end with disco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133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of knowledg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nd the methods used to find that knowl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666880"/>
            <a:ext cx="7467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sts use models to help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ring things into perspective and to make it easier to underst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505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tists use a systematic method (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cientific metho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ry and discover the answers to their curios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419112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teps includ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bservations, forming hypothesis, testing the hypothesis, analyzing and drawing conclu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9528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in mind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ne test does not make a theory AND parts, predictions and ideas of the experiment can be rev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cientists also communicat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 the same language (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371600"/>
            <a:ext cx="6629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yste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f measurement similar to metr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e use things like inches and they use things like centimeters….BUT WE ALL IN SCIENCE USE THE SAME (centimeters, for examp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048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429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get origin fro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reek scientist Democritis, who says they are indivisi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7339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= Early Scient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atter is made up of individual particles called atoms (too small to study to obser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343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atoms hav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o electrical charge </a:t>
            </a: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neu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7242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Thomson through experiments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rovides first evidence that atoms are made of smaller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omson’s experimen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ee pg. 103) showed the presence of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egatively 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utherfor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=  gold foil experiment (see pg 1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1337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ims a narrow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eam of alpha particles at a thin piece of gold foi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514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sing a scree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round the gold, rutherford was hoping to be able to follow the path an alpha particle takes after it passes through the g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2004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rticles did not behave like he thought:  some went straight through, some bounced off at weird angles, while some came straigh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39625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rutherford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suggests the nucleus, where positive charges hang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9144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1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mad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 main part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1981080"/>
          <a:ext cx="6933960" cy="227808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400"/>
              </a:tblGrid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Elect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bout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Proton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Neutron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30000">
                          <a:solidFill>
                            <a:srgbClr val="cc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143000" y="441972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*mass of a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tom mostly in the 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1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tructure of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 = #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in an element.  Atoms of any given element has same # of 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371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Hydrogen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 proton = Atomic number i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number = tells how man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and n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there are in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81952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Al = Alumi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mass number is (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3886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tons  +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neutr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as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343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pes – atoms of the sam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lement that have different #’s of neutrons, thus different mass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sotopes do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same atomic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990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?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# of protons stay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371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ss # differen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ecause # of neutrons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133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Oxyge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O) – 8 protons (never chang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590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 oxygens hav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9 neutrons, giving a mass # of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335268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aming isotopes =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using the element name and mass number  (Oxygen –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43434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n elemen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s a number after it, we are talking about an isoto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3:52:02Z</dcterms:created>
  <dc:creator>Farwell Area Schools</dc:creator>
  <dc:description/>
  <dc:language>en-US</dc:language>
  <cp:lastModifiedBy>User</cp:lastModifiedBy>
  <dcterms:modified xsi:type="dcterms:W3CDTF">2010-08-08T23:34:44Z</dcterms:modified>
  <cp:revision>27</cp:revision>
  <dc:subject/>
  <dc:title>Note Guide 1-1 Studying Atoms</dc:title>
</cp:coreProperties>
</file>